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gif" ContentType="image/gi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409-636E-423F-83BA-170F18291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50B1-648B-4EA0-8727-D440F10A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72AE-228D-4335-AD7C-C35EA615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37B6-E5FE-4FE5-A5C5-284BC046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BE16-4303-4E0E-A346-D89CAF655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E1BE-F386-4E3F-823C-304419A9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36D8-1742-4525-8390-791D842B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CC37-9483-4E77-8EA4-468AB123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D159-71FE-4591-AB92-E0D22805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23CB-CF23-476F-9A0A-D93DD01B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5127-0055-4637-BCEF-42F8205E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327A-57DB-4791-9FD8-7272BC8D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F4D3-992D-4EB2-9947-1BD28C08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3574-821A-413D-BE44-87B230DB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F9276-C464-4CFF-B1DF-F590A77D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87844-35DD-4E02-8079-92EDDE526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A84C-ED78-4F46-9F8D-12420332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2112-0DEF-44D7-BA1E-DB009382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5571-7FEE-4D26-AD49-03E951B7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199A-ECA8-4B6E-8A29-092C488F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1740-CC68-4287-8C77-04EF22B3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1C83-9053-4DDC-BCB0-D362014D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F298-CF29-40F5-B13F-96AAB8A0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E892-AD99-4D8D-A3B0-BB44025F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336699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3656-6FEE-424A-BFE9-8D75FACD9A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336699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4A5BC-F08A-48C5-BC7D-7446376C7D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cccc"/>
                </a:solidFill>
                <a:latin typeface="Times New Roman"/>
              </a:rPr>
              <a:t>How a Bill Becomes a Law</a:t>
            </a:r>
            <a:endParaRPr b="0" lang="en-US" sz="6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re are two things you shouldn’t see being made:  sausages and laws.”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bill3" descr=""/>
          <p:cNvPicPr/>
          <p:nvPr/>
        </p:nvPicPr>
        <p:blipFill>
          <a:blip r:embed="rId1"/>
          <a:stretch/>
        </p:blipFill>
        <p:spPr>
          <a:xfrm>
            <a:off x="3352680" y="2133720"/>
            <a:ext cx="2590920" cy="194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791320" y="25146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3429000"/>
            <a:ext cx="1371600" cy="914400"/>
          </a:xfrm>
          <a:prstGeom prst="rightArrow">
            <a:avLst>
              <a:gd name="adj1" fmla="val 50000"/>
              <a:gd name="adj2" fmla="val 37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057400"/>
            <a:ext cx="2819520" cy="1600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324480" y="121896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4572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es back to committee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2880" y="3733920"/>
            <a:ext cx="2819520" cy="1600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41148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Y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1981080"/>
            <a:ext cx="2819160" cy="4267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21337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ull hous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24480" y="5303880"/>
            <a:ext cx="281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ass a bill a mere majority is requ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34290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can debate and vote on amend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rot="15427800">
            <a:off x="5142960" y="5524560"/>
            <a:ext cx="838440" cy="761760"/>
          </a:xfrm>
          <a:custGeom>
            <a:avLst/>
            <a:gdLst>
              <a:gd name="textAreaLeft" fmla="*/ 279000 w 838440"/>
              <a:gd name="textAreaRight" fmla="*/ 703080 w 838440"/>
              <a:gd name="textAreaTop" fmla="*/ 452160 h 761760"/>
              <a:gd name="textAreaBottom" fmla="*/ 6393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294"/>
                </a:moveTo>
                <a:lnTo>
                  <a:pt x="12817" y="16294"/>
                </a:lnTo>
                <a:lnTo>
                  <a:pt x="12817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123" y="7200"/>
                </a:lnTo>
                <a:lnTo>
                  <a:pt x="18123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67080" y="548640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8120" y="190512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version of bi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BS00979_" descr=""/>
          <p:cNvPicPr/>
          <p:nvPr/>
        </p:nvPicPr>
        <p:blipFill>
          <a:blip r:embed="rId1"/>
          <a:stretch/>
        </p:blipFill>
        <p:spPr>
          <a:xfrm>
            <a:off x="2057400" y="457200"/>
            <a:ext cx="1641600" cy="1752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791320" y="25146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2057400"/>
            <a:ext cx="2819520" cy="1600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733920"/>
            <a:ext cx="2819520" cy="1600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41148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Y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22860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cc"/>
                </a:solidFill>
                <a:latin typeface="Times New Roman"/>
              </a:rPr>
              <a:t>They </a:t>
            </a:r>
            <a:r>
              <a:rPr b="0" lang="en-US" sz="5400" spc="-1" strike="noStrike" u="sng">
                <a:solidFill>
                  <a:srgbClr val="33cccc"/>
                </a:solidFill>
                <a:uFillTx/>
                <a:latin typeface="Times New Roman"/>
              </a:rPr>
              <a:t>too</a:t>
            </a:r>
            <a:r>
              <a:rPr b="0" lang="en-US" sz="5400" spc="-1" strike="noStrike">
                <a:solidFill>
                  <a:srgbClr val="33cccc"/>
                </a:solidFill>
                <a:latin typeface="Times New Roman"/>
              </a:rPr>
              <a:t> must pass it for it to become a law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4038480"/>
            <a:ext cx="3504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Goes to other house for its considera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rot="15427800">
            <a:off x="5142960" y="5524560"/>
            <a:ext cx="838440" cy="761760"/>
          </a:xfrm>
          <a:custGeom>
            <a:avLst/>
            <a:gdLst>
              <a:gd name="textAreaLeft" fmla="*/ 279000 w 838440"/>
              <a:gd name="textAreaRight" fmla="*/ 703080 w 838440"/>
              <a:gd name="textAreaTop" fmla="*/ 452160 h 761760"/>
              <a:gd name="textAreaBottom" fmla="*/ 6393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6294"/>
                </a:moveTo>
                <a:lnTo>
                  <a:pt x="12817" y="16294"/>
                </a:lnTo>
                <a:lnTo>
                  <a:pt x="12817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123" y="7200"/>
                </a:lnTo>
                <a:lnTo>
                  <a:pt x="18123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67080" y="5486400"/>
            <a:ext cx="838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j0286761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2133720" cy="203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What are some of the things people do in all this?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6934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rst of all, each house has leadership positions to guide legisla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ince there are so many members of Congress and so much needs to get done,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se people are very powerful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j0090563" descr=""/>
          <p:cNvPicPr/>
          <p:nvPr/>
        </p:nvPicPr>
        <p:blipFill>
          <a:blip r:embed="rId1"/>
          <a:stretch/>
        </p:blipFill>
        <p:spPr>
          <a:xfrm>
            <a:off x="6248520" y="2286000"/>
            <a:ext cx="2590560" cy="1897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Who are they?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Hous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Speak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ity Lead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nority Lead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ity Whi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nority Whi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191120" y="24382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nnis Hastert (R-Il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m DeLay (R-Tx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ancy Pelosi (D-C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oy Blunt (R-M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eny Hoyer (D-Md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Who are they?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en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Presid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es Pro Tem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ity Lead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nority Lead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191120" y="24382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ick Cheney (V.P.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ed Stevens (R-Ak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ill Frist (R-Tn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om Daschle (D-SD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Debate in the House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ctated by the Speaker and the Rules Committe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cedures for debate and amendments is much more strict and limited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j0174359" descr=""/>
          <p:cNvPicPr/>
          <p:nvPr/>
        </p:nvPicPr>
        <p:blipFill>
          <a:blip r:embed="rId1"/>
          <a:stretch/>
        </p:blipFill>
        <p:spPr>
          <a:xfrm>
            <a:off x="6019920" y="2362320"/>
            <a:ext cx="2895480" cy="2797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Debate in the Senate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Senate is considered “the most deliberative body in the world.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is means they feel that if a law is to be as good as it must be, then all the talking about it should be allowed, without limit,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befor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it is considered for a vote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Debate in the Senate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do you think a clever Senator might do, then, if he doesn’t like a bill and knows he is in the minorit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He can filibuster!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j0124649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2689200" cy="2559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If the bill passes </a:t>
            </a:r>
            <a:r>
              <a:rPr b="0" lang="en-US" sz="4400" spc="-1" strike="noStrike" u="sng">
                <a:solidFill>
                  <a:srgbClr val="33cccc"/>
                </a:solidFill>
                <a:uFillTx/>
                <a:latin typeface="Times New Roman"/>
              </a:rPr>
              <a:t>both</a:t>
            </a: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 houses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657240" y="205740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n it goes to the president’s desk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re,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four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things can happen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9" name="BS00823_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3505320" cy="2986200"/>
          </a:xfrm>
          <a:prstGeom prst="rect">
            <a:avLst/>
          </a:prstGeom>
          <a:ln w="0">
            <a:noFill/>
          </a:ln>
        </p:spPr>
      </p:pic>
      <p:pic>
        <p:nvPicPr>
          <p:cNvPr id="200" name="BS00979_" descr=""/>
          <p:cNvPicPr/>
          <p:nvPr/>
        </p:nvPicPr>
        <p:blipFill>
          <a:blip r:embed="rId2"/>
          <a:stretch/>
        </p:blipFill>
        <p:spPr>
          <a:xfrm>
            <a:off x="7502400" y="228600"/>
            <a:ext cx="1641600" cy="1752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If the bill passes both houses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657240" y="205704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And if, </a:t>
            </a:r>
            <a:r>
              <a:rPr b="0" i="1" lang="en-US" sz="4800" spc="-1" strike="noStrike">
                <a:solidFill>
                  <a:srgbClr val="ffffff"/>
                </a:solidFill>
                <a:latin typeface="Times New Roman"/>
              </a:rPr>
              <a:t>if by chance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, the president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imes New Roman"/>
              </a:rPr>
              <a:t>signs it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then…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n…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BS00823_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3505320" cy="2986200"/>
          </a:xfrm>
          <a:prstGeom prst="rect">
            <a:avLst/>
          </a:prstGeom>
          <a:ln w="0">
            <a:noFill/>
          </a:ln>
        </p:spPr>
      </p:pic>
      <p:pic>
        <p:nvPicPr>
          <p:cNvPr id="204" name="BS00979_" descr=""/>
          <p:cNvPicPr/>
          <p:nvPr/>
        </p:nvPicPr>
        <p:blipFill>
          <a:blip r:embed="rId2"/>
          <a:stretch/>
        </p:blipFill>
        <p:spPr>
          <a:xfrm>
            <a:off x="7502400" y="228600"/>
            <a:ext cx="1641600" cy="17524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762120" y="563868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Oh boy oh boy oh bo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bd05378_" descr=""/>
          <p:cNvPicPr/>
          <p:nvPr/>
        </p:nvPicPr>
        <p:blipFill>
          <a:blip r:embed="rId3"/>
          <a:stretch/>
        </p:blipFill>
        <p:spPr>
          <a:xfrm>
            <a:off x="7391520" y="5410080"/>
            <a:ext cx="1527120" cy="927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What is a bill?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ill is a written idea for a law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ill can be started in either house of Congress, except revenue bill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nce both houses must pass a bill, only </a:t>
            </a: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3%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f all bills become law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is a very long, involved process. 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Why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is it that wa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BS00979_" descr=""/>
          <p:cNvPicPr/>
          <p:nvPr/>
        </p:nvPicPr>
        <p:blipFill>
          <a:blip r:embed="rId1"/>
          <a:stretch/>
        </p:blipFill>
        <p:spPr>
          <a:xfrm>
            <a:off x="7502400" y="228600"/>
            <a:ext cx="1641600" cy="1752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Black"/>
              </a:rPr>
              <a:t>Congratulations, Bill, you’re now a Law!</a:t>
            </a:r>
            <a:endParaRPr b="0" lang="en-US" sz="5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law" descr=""/>
          <p:cNvPicPr/>
          <p:nvPr/>
        </p:nvPicPr>
        <p:blipFill>
          <a:blip r:embed="rId1"/>
          <a:srcRect l="0" t="0" r="0" b="5739"/>
          <a:stretch/>
        </p:blipFill>
        <p:spPr>
          <a:xfrm>
            <a:off x="2133720" y="2590920"/>
            <a:ext cx="5105160" cy="3608280"/>
          </a:xfrm>
          <a:prstGeom prst="rect">
            <a:avLst/>
          </a:prstGeom>
          <a:ln w="0">
            <a:noFill/>
          </a:ln>
        </p:spPr>
      </p:pic>
      <p:pic>
        <p:nvPicPr>
          <p:cNvPr id="210" name="so01047_" descr=""/>
          <p:cNvPicPr/>
          <p:nvPr/>
        </p:nvPicPr>
        <p:blipFill>
          <a:blip r:embed="rId2"/>
          <a:stretch/>
        </p:blipFill>
        <p:spPr>
          <a:xfrm>
            <a:off x="6858000" y="1981080"/>
            <a:ext cx="1996920" cy="2590920"/>
          </a:xfrm>
          <a:prstGeom prst="rect">
            <a:avLst/>
          </a:prstGeom>
          <a:ln w="0">
            <a:noFill/>
          </a:ln>
        </p:spPr>
      </p:pic>
      <p:pic>
        <p:nvPicPr>
          <p:cNvPr id="211" name="so01047_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1996920" cy="2590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Arial"/>
              </a:rPr>
              <a:t>House of Origin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 is introduce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ts numbere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ts a reading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1676520"/>
            <a:ext cx="4267080" cy="4876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1676520"/>
            <a:ext cx="3657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nly a member of Congress may submit a bill.  But any citizen can suggest a bill to him/he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BS00979_" descr=""/>
          <p:cNvPicPr/>
          <p:nvPr/>
        </p:nvPicPr>
        <p:blipFill>
          <a:blip r:embed="rId1"/>
          <a:stretch/>
        </p:blipFill>
        <p:spPr>
          <a:xfrm>
            <a:off x="1828800" y="4343400"/>
            <a:ext cx="1641600" cy="1752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 goes to committe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1676520"/>
            <a:ext cx="4267080" cy="2057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905120"/>
            <a:ext cx="533520" cy="60948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295280" y="3886200"/>
            <a:ext cx="45720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95280" y="47242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4191120"/>
            <a:ext cx="4952880" cy="20574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3505320"/>
            <a:ext cx="2743200" cy="914400"/>
          </a:xfrm>
          <a:prstGeom prst="rightArrow">
            <a:avLst>
              <a:gd name="adj1" fmla="val 50000"/>
              <a:gd name="adj2" fmla="val 75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457200"/>
            <a:ext cx="327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cause there is so much to do, the work of Congress is divided u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PE01616_" descr=""/>
          <p:cNvPicPr/>
          <p:nvPr/>
        </p:nvPicPr>
        <p:blipFill>
          <a:blip r:embed="rId1"/>
          <a:stretch/>
        </p:blipFill>
        <p:spPr>
          <a:xfrm>
            <a:off x="3657600" y="457200"/>
            <a:ext cx="1981080" cy="1859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What are some committees?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3809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ppropri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ud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med Servic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bo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oreign Affai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Judicia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962160" y="1447920"/>
            <a:ext cx="5181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re money is sp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oney is sp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Defense, militar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orking conditions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elations with other countr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urts, impeach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Leaders of committees are very powerful members of Congress.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are the chairpersons?  Two key qualifications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Member of majority party</a:t>
            </a: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Seniority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j0197675" descr=""/>
          <p:cNvPicPr/>
          <p:nvPr/>
        </p:nvPicPr>
        <p:blipFill>
          <a:blip r:embed="rId1"/>
          <a:stretch/>
        </p:blipFill>
        <p:spPr>
          <a:xfrm>
            <a:off x="4572000" y="3962520"/>
            <a:ext cx="2765520" cy="289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 goes to committe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676520"/>
            <a:ext cx="4267080" cy="20574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4343400"/>
            <a:ext cx="495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ll is considered by a subcommitte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1905120"/>
            <a:ext cx="533520" cy="609480"/>
          </a:xfrm>
          <a:prstGeom prst="rightArrow">
            <a:avLst>
              <a:gd name="adj1" fmla="val 50000"/>
              <a:gd name="adj2" fmla="val 25000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295280" y="3886200"/>
            <a:ext cx="457200" cy="838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4724280"/>
            <a:ext cx="6098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133720" y="4191120"/>
            <a:ext cx="4952880" cy="20574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4120" y="3505320"/>
            <a:ext cx="2743200" cy="914400"/>
          </a:xfrm>
          <a:prstGeom prst="rightArrow">
            <a:avLst>
              <a:gd name="adj1" fmla="val 50000"/>
              <a:gd name="adj2" fmla="val 75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457200"/>
            <a:ext cx="327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ecause there is so much to do, the work of Congress is divided up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E01561_" descr=""/>
          <p:cNvPicPr/>
          <p:nvPr/>
        </p:nvPicPr>
        <p:blipFill>
          <a:blip r:embed="rId1"/>
          <a:stretch/>
        </p:blipFill>
        <p:spPr>
          <a:xfrm>
            <a:off x="6172200" y="4876920"/>
            <a:ext cx="2673360" cy="1774800"/>
          </a:xfrm>
          <a:prstGeom prst="rect">
            <a:avLst/>
          </a:prstGeom>
          <a:ln w="0">
            <a:noFill/>
          </a:ln>
        </p:spPr>
      </p:pic>
      <p:pic>
        <p:nvPicPr>
          <p:cNvPr id="138" name="PE01616_" descr=""/>
          <p:cNvPicPr/>
          <p:nvPr/>
        </p:nvPicPr>
        <p:blipFill>
          <a:blip r:embed="rId2"/>
          <a:stretch/>
        </p:blipFill>
        <p:spPr>
          <a:xfrm>
            <a:off x="3657600" y="457200"/>
            <a:ext cx="1981080" cy="1859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What happens in a subcommittee?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162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imes New Roman"/>
              </a:rPr>
              <a:t>It is where it is investigated most thoroughly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t is here where it lives or dies. 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This is the most critical stag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bill may be in subcommittee from 6 months to a full yea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j0311860" descr=""/>
          <p:cNvPicPr/>
          <p:nvPr/>
        </p:nvPicPr>
        <p:blipFill>
          <a:blip r:embed="rId1"/>
          <a:stretch/>
        </p:blipFill>
        <p:spPr>
          <a:xfrm>
            <a:off x="6172200" y="1676520"/>
            <a:ext cx="2514600" cy="232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90920" y="34290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N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4267080"/>
            <a:ext cx="1371600" cy="914400"/>
          </a:xfrm>
          <a:prstGeom prst="rightArrow">
            <a:avLst>
              <a:gd name="adj1" fmla="val 50000"/>
              <a:gd name="adj2" fmla="val 375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3048120"/>
            <a:ext cx="2819520" cy="1600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124080" y="1295280"/>
            <a:ext cx="0" cy="1447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5335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es back to writer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52480" y="4724280"/>
            <a:ext cx="2819520" cy="1600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51055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Y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5105520"/>
            <a:ext cx="609480" cy="68580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2057400"/>
            <a:ext cx="3276720" cy="42670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2133720"/>
            <a:ext cx="2590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le committee vo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8600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Full house for vot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57913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t on calend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3886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ust be a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quorum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present (majority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j0286761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2133720" cy="203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16:33:22Z</dcterms:created>
  <dc:creator>User</dc:creator>
  <dc:description/>
  <dc:language>en-US</dc:language>
  <cp:lastModifiedBy>User</cp:lastModifiedBy>
  <dcterms:modified xsi:type="dcterms:W3CDTF">2003-12-01T18:58:10Z</dcterms:modified>
  <cp:revision>42</cp:revision>
  <dc:subject/>
  <dc:title>How a Bill Becomes a Law</dc:title>
</cp:coreProperties>
</file>